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C6DD-61E2-41A7-A842-589794D91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5471-8357-44A0-8A90-990033DA2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E601-FBED-4938-8F1D-E710C218F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8D77-319B-4474-B6F1-C4941D0F6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6672-F10C-4CF9-9EAB-AD84A3F92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6CF5-9270-4FC3-8636-0E382FDCA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05DA-057A-4F40-A292-9B601D830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AA27-2019-42DC-86A0-169E66775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53F9-07D8-4F37-BE96-D3E056462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D166-275B-48E0-9A8E-A4A7B51E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3B4A-7E94-422C-9019-4C8D6E576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C93B-0BA7-4340-91EF-DC2CC3941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3F8F8-2070-4400-B988-016CCF04EE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47640" y="476280"/>
            <a:ext cx="7374240" cy="5592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oper Black"/>
              </a:rPr>
              <a:t>Outstanding openers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03280" y="5516280"/>
            <a:ext cx="6400800" cy="1152360"/>
          </a:xfrm>
          <a:prstGeom prst="rect">
            <a:avLst/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can vary my sentence star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 rot="169800">
            <a:off x="610920" y="260280"/>
            <a:ext cx="2647800" cy="1933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987280" y="333000"/>
            <a:ext cx="61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oper Black"/>
              </a:rPr>
              <a:t>Use a conn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ile Tom waited, the bus c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fter they had their dinner, they ate dese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though your menu has some healthy items, many are not good for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"/>
              </a:rPr>
              <a:t>Despite, When, Even though, Because, However, So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oper Black"/>
              </a:rPr>
              <a:t>Use an adverb – an ‘ed’ or ‘ly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 rot="948600">
            <a:off x="5364000" y="3992040"/>
            <a:ext cx="3780000" cy="28656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03120" y="1365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9080" y="1604880"/>
            <a:ext cx="7739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tonishingly, the bus arrived on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fortunately, I cannot make it to your par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utiously, she removed the band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6320" y="4960800"/>
            <a:ext cx="5249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"/>
              </a:rPr>
              <a:t>Sadly, Crazily, Disappointingl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"/>
              </a:rPr>
              <a:t>Regretfully, Steadily, Happily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"/>
              </a:rPr>
              <a:t>Slowly, Mournfully, Gracious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oper Black"/>
              </a:rPr>
              <a:t>Use a simile or metaph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ke a mouse, he tiptoed through the ho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rave lions, they stepped into bat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 swift as a bird, she glided through the a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 rot="82800">
            <a:off x="344160" y="4005360"/>
            <a:ext cx="3483000" cy="27478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oper Black"/>
              </a:rPr>
              <a:t>Use a noun or ad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bwebs spanned the corri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aves fell as the wind ble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autiful stars filled the sk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 rot="948600">
            <a:off x="4642920" y="2637000"/>
            <a:ext cx="4038840" cy="30603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a fe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nely, she walked the corri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ated, he jumped for jo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ealous, she tore up his cloth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gry, they fought for h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 rot="948600">
            <a:off x="6156000" y="764640"/>
            <a:ext cx="2784600" cy="21114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679800" y="3376440"/>
            <a:ext cx="2184840" cy="30801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"/>
              </a:rPr>
              <a:t>Devastate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"/>
              </a:rPr>
              <a:t>Unhapp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"/>
              </a:rPr>
              <a:t>Delighte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"/>
              </a:rPr>
              <a:t>Melanchol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"/>
              </a:rPr>
              <a:t>Excite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"/>
              </a:rPr>
              <a:t>Sa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"/>
              </a:rPr>
              <a:t>Ambiva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oper Black"/>
              </a:rPr>
              <a:t>Use a verb – an ‘ing’ cla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iggling and laughing, they ran to scho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aiting for the others, Jade stared up at the sk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 rot="948600">
            <a:off x="4500360" y="3797280"/>
            <a:ext cx="4038480" cy="3060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9:32:32Z</dcterms:created>
  <dc:creator>Sony</dc:creator>
  <dc:description/>
  <dc:language>en-US</dc:language>
  <cp:lastModifiedBy>Sony</cp:lastModifiedBy>
  <dcterms:modified xsi:type="dcterms:W3CDTF">2008-11-27T20:01:17Z</dcterms:modified>
  <cp:revision>3</cp:revision>
  <dc:subject/>
  <dc:title>Outstanding openers!</dc:title>
</cp:coreProperties>
</file>